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27DA-8BF7-4E19-B89B-0830957D82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0AD-C02D-4F4E-A4F2-9CE9B010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7FA-FB2D-4077-93D1-89B0CF29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BDD-E5A0-4AA6-A015-B1E2A8F1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922-FE0F-4534-AA42-326DED95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FA9-24BC-4C7E-87B2-6ACEA77A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BDB-B7DD-41EA-BD68-EE710BFA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164-8973-4386-B4E2-EE8A402A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402-3D03-4088-8CDA-B0BF28C1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014-4BF0-4505-9C04-3C1975B1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770-01F2-43C3-B587-66712FBC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705-FA0C-4011-816D-EE7948E9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947-93A7-4DBE-BC1F-40F12BAE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A7B7-D892-4990-98D3-130C0DA3B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ansition Metals, the Lanthanides and the Antin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3520" y="177480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taly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ubstance that can make something happen faster but is not changed it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520" y="3679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transition elements, such as nickel, zinc, and cobalt,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570320" y="685800"/>
            <a:ext cx="5362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ner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9960" y="1309680"/>
            <a:ext cx="861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wo series of inner transition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9960" y="1924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series, from cerium to lutet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ntha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9960" y="29844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series of elements, from thorium to lawrenc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im54"/>
          <p:cNvPicPr/>
          <p:nvPr/>
        </p:nvPicPr>
        <p:blipFill>
          <a:blip r:embed="rId1"/>
          <a:stretch/>
        </p:blipFill>
        <p:spPr>
          <a:xfrm>
            <a:off x="1676520" y="3986280"/>
            <a:ext cx="57909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69240" y="685800"/>
            <a:ext cx="349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antha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thanides are soft metals that can be cut with a kn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3520" y="21337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are so similar that they are hard to separate when they occur in the same ore, which they often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3520" y="3489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pite the name rare earth, the lanthanides are not as rare as originally thou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3520" y="4403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ium makes up 50 percent of an alloy called misch (MIHSH)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33520" y="531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ints in lighters are made from misch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3334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actinides are radioac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19335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toms of radioactive elements are unstable and decay to form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29592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rium, protactinium, and uranium are the only actinides that now are found naturally on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33520" y="4432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 is found in Earth’s crust because its half-life is long—4.5 billio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3082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actinides are synthetic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18828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thetic elemen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made in laboratories and nuclear rea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33520" y="2882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utonium is used as a fuel in nuclear power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3886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ium is used in some home smoke dete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33520" y="48988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ifornium-252 is used to kill canc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8129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ists have been using amalgam for over 150 years to fill cavities in decayed tee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3520" y="3324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algam, a mixture of silver, copper, tin, and mercury, is the familiar “silver filling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447920"/>
            <a:ext cx="8153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647 im59 dentist"/>
          <p:cNvPicPr/>
          <p:nvPr/>
        </p:nvPicPr>
        <p:blipFill>
          <a:blip r:embed="rId1"/>
          <a:stretch/>
        </p:blipFill>
        <p:spPr>
          <a:xfrm>
            <a:off x="3657600" y="2514600"/>
            <a:ext cx="50292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6"/>
          <p:cNvGrpSpPr/>
          <p:nvPr/>
        </p:nvGrpSpPr>
        <p:grpSpPr>
          <a:xfrm>
            <a:off x="533520" y="1449360"/>
            <a:ext cx="8153280" cy="2745000"/>
            <a:chOff x="533520" y="1449360"/>
            <a:chExt cx="8153280" cy="2745000"/>
          </a:xfrm>
        </p:grpSpPr>
        <p:sp>
          <p:nvSpPr>
            <p:cNvPr id="152" name="Text Box 7"/>
            <p:cNvSpPr/>
            <p:nvPr/>
          </p:nvSpPr>
          <p:spPr>
            <a:xfrm>
              <a:off x="533520" y="1449360"/>
              <a:ext cx="81532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oday dentists have alternatives to amalgam.  New composites, resins, and porcelains a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898560" y="2346480"/>
              <a:ext cx="28353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ing used to repair decayed, broken, or missing tee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three elements are known as “the iron tria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95440" y="409104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ron triad consists of iron, cobalt, and nickel. They are called this because of their similar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761480" y="34290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group consists of ruthenium, rhodium, palladium, osmium, iridium, and platin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95440" y="3962520"/>
            <a:ext cx="73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the platinum group. These elements all have similar properties, which is why they are group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5106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Metals in the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25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3-12 are called the transition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23464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m are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293832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ross any period from Group 3 through 12, the properties of the elements change less noticeably than they do across a period of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33520" y="48290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elements are found combined with other elements in 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most notable about the nuclei of the actin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95440" y="396252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ctinides are unstable. All the actinides are radioactive, which means they decay to form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7542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115080" y="6840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69880" y="4665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3328920"/>
            <a:ext cx="327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, among others, have magnetic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7"/>
          <p:cNvPicPr/>
          <p:nvPr/>
        </p:nvPicPr>
        <p:blipFill>
          <a:blip r:embed="rId1"/>
          <a:stretch/>
        </p:blipFill>
        <p:spPr>
          <a:xfrm>
            <a:off x="3809880" y="2397240"/>
            <a:ext cx="4794480" cy="3622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"/>
          <p:cNvGrpSpPr/>
          <p:nvPr/>
        </p:nvGrpSpPr>
        <p:grpSpPr>
          <a:xfrm>
            <a:off x="533520" y="1316160"/>
            <a:ext cx="8381880" cy="1894320"/>
            <a:chOff x="533520" y="1316160"/>
            <a:chExt cx="8381880" cy="1894320"/>
          </a:xfrm>
        </p:grpSpPr>
        <p:sp>
          <p:nvSpPr>
            <p:cNvPr id="62" name="Text Box 8"/>
            <p:cNvSpPr/>
            <p:nvPr/>
          </p:nvSpPr>
          <p:spPr>
            <a:xfrm>
              <a:off x="533520" y="1316160"/>
              <a:ext cx="83818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ree elements in period 4—iron, cobalt, and nickel—have such similar properties that th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863640" y="214164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re known as the iron tria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270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ial magnets are made from an alloy of nickel, cobalt, and alumin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el is used in batteries along with cadm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2097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is a necessary part of hemoglobin, the substance that transports oxygen in the bl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3520" y="41752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also is mixed with other metals and with carbon to create a variety of steels with different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3520" y="121932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metals have higher melting points than the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7"/>
          <p:cNvGrpSpPr/>
          <p:nvPr/>
        </p:nvGrpSpPr>
        <p:grpSpPr>
          <a:xfrm>
            <a:off x="533520" y="2133720"/>
            <a:ext cx="7848360" cy="1449720"/>
            <a:chOff x="533520" y="2133720"/>
            <a:chExt cx="7848360" cy="1449720"/>
          </a:xfrm>
        </p:grpSpPr>
        <p:sp>
          <p:nvSpPr>
            <p:cNvPr id="77" name="Text Box 8"/>
            <p:cNvSpPr/>
            <p:nvPr/>
          </p:nvSpPr>
          <p:spPr>
            <a:xfrm>
              <a:off x="533520" y="2133720"/>
              <a:ext cx="784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filaments of lightbulbs are made o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892080" y="2514600"/>
              <a:ext cx="246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ungsten, element 7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123192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ngsten has the highest melting point of any metal (3,410°C) and will not melt when a current passes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12193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, which has the lowest melting point of any metal (–39°C), is used in thermometers and in barome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3520" y="3984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 is the only metal that is a liquid at room tempera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3520" y="49752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 many of the heavy metals, mercury is poisonous to living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im50 thermometer"/>
          <p:cNvPicPr/>
          <p:nvPr/>
        </p:nvPicPr>
        <p:blipFill>
          <a:blip r:embed="rId1"/>
          <a:stretch/>
        </p:blipFill>
        <p:spPr>
          <a:xfrm>
            <a:off x="2197080" y="2743200"/>
            <a:ext cx="47498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143208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ium’s name comes from the Greek word for color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r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3520" y="34322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other transition elements combine to form substances with brilliant col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m51 paints"/>
          <p:cNvPicPr/>
          <p:nvPr/>
        </p:nvPicPr>
        <p:blipFill>
          <a:blip r:embed="rId1"/>
          <a:stretch/>
        </p:blipFill>
        <p:spPr>
          <a:xfrm>
            <a:off x="4343400" y="1676520"/>
            <a:ext cx="42670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5048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enium, rhodium, palladium, osmium, iridium, and platinum are sometimes called the platinum group because they have similar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35751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 not combine as easily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3520" y="477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result, they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36:23Z</dcterms:created>
  <dc:creator>CIC1</dc:creator>
  <dc:description/>
  <dc:language>en-US</dc:language>
  <cp:lastModifiedBy>RomaK</cp:lastModifiedBy>
  <dcterms:modified xsi:type="dcterms:W3CDTF">2015-09-02T06:04:42Z</dcterms:modified>
  <cp:revision>6</cp:revision>
  <dc:subject/>
  <dc:title>The Transition Metals, the Lanthanides and the Antinides</dc:title>
</cp:coreProperties>
</file>